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53.wmf" ContentType="image/x-wmf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png" ContentType="image/png"/>
  <Override PartName="/ppt/media/image60.wmf" ContentType="image/x-wmf"/>
  <Override PartName="/ppt/media/image31.png" ContentType="image/png"/>
  <Override PartName="/ppt/media/image30.png" ContentType="image/png"/>
  <Override PartName="/ppt/media/image13.wmf" ContentType="image/x-wmf"/>
  <Override PartName="/ppt/media/image1.wmf" ContentType="image/x-wmf"/>
  <Override PartName="/ppt/media/image35.png" ContentType="image/png"/>
  <Override PartName="/ppt/media/image25.png" ContentType="image/png"/>
  <Override PartName="/ppt/media/image65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57.wmf" ContentType="image/x-wmf"/>
  <Override PartName="/ppt/media/image5.png" ContentType="image/png"/>
  <Override PartName="/ppt/media/image17.png" ContentType="image/png"/>
  <Override PartName="/ppt/media/image58.wmf" ContentType="image/x-wmf"/>
  <Override PartName="/ppt/media/image59.wmf" ContentType="image/x-wmf"/>
  <Override PartName="/ppt/media/image23.png" ContentType="image/png"/>
  <Override PartName="/ppt/media/image63.wmf" ContentType="image/x-wmf"/>
  <Override PartName="/ppt/media/image24.png" ContentType="image/png"/>
  <Override PartName="/ppt/media/image64.wmf" ContentType="image/x-wmf"/>
  <Override PartName="/ppt/media/image62.wmf" ContentType="image/x-wmf"/>
  <Override PartName="/ppt/media/image22.png" ContentType="image/png"/>
  <Override PartName="/ppt/media/image77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21.png" ContentType="image/png"/>
  <Override PartName="/ppt/media/image76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75.wmf" ContentType="image/x-wmf"/>
  <Override PartName="/ppt/media/image74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73.wmf" ContentType="image/x-wmf"/>
  <Override PartName="/ppt/media/image15.png" ContentType="image/png"/>
  <Override PartName="/ppt/media/image3.png" ContentType="image/png"/>
  <Override PartName="/ppt/media/image33.png" ContentType="image/png"/>
  <Override PartName="/ppt/media/image72.wmf" ContentType="image/x-wmf"/>
  <Override PartName="/ppt/media/image14.png" ContentType="image/png"/>
  <Override PartName="/ppt/media/image2.png" ContentType="image/png"/>
  <Override PartName="/ppt/media/image32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67.wmf" ContentType="image/x-wmf"/>
  <Override PartName="/ppt/media/image27.png" ContentType="image/png"/>
  <Override PartName="/ppt/media/image66.wmf" ContentType="image/x-wmf"/>
  <Override PartName="/ppt/media/image26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1.png" ContentType="image/png"/>
  <Override PartName="/ppt/media/image29.png" ContentType="image/png"/>
  <Override PartName="/ppt/media/image51.wmf" ContentType="image/x-wmf"/>
  <Override PartName="/ppt/media/image12.png" ContentType="image/png"/>
  <Override PartName="/ppt/media/image52.wmf" ContentType="image/x-wmf"/>
  <Override PartName="/ppt/media/image8.wmf" ContentType="image/x-wmf"/>
  <Override PartName="/ppt/media/image40.png" ContentType="image/png"/>
  <Override PartName="/ppt/media/image9.png" ContentType="image/png"/>
  <Override PartName="/ppt/media/image61.wmf" ContentType="image/x-wmf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2BD-ADFA-4C12-9960-F431A670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3A5-60C4-4595-8A9C-57D8AC3E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DB4-A4A7-4321-9030-4CBA2F4A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E0E-1FDF-4620-8E29-BDE4AE53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4C7-52EF-4DD8-9C89-22290FFC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09B-E66B-4886-A7B7-C3DDF461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BD7-8A28-457C-9229-BD95A654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517-62AE-48B8-8C49-F8192C60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444-9A48-4A68-9CEF-18FF275A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98B-51BB-4888-B424-E8F77E6C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31E-971C-4B85-9840-7ED5A575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59D-02A6-4B2B-902F-40FC41E7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4CEF-0717-4EF0-A085-2AE0E2C32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7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yro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: Introducing Inheritance and Polymorphism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7652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heritance Overview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olymorphism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erived class absorbs data members from it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ed class normally adds its own data members and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rived class is typically more specialized than its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lation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of the derived cla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of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inheritance relationships amo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base classes are one level above their deriv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rect base classes are two or more levels above their deriv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9040" y="1415880"/>
          <a:ext cx="7769160" cy="51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415880"/>
                    <a:ext cx="776916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695680"/>
            <a:ext cx="8229600" cy="2334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7320" y="1447920"/>
            <a:ext cx="54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ance hierarchy for university stu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90800"/>
            <a:ext cx="822960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5800" y="1461960"/>
            <a:ext cx="667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ance hierarchy for universi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unityMemb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colon,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 and the base class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retain their original member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are also inherited, but are not directly accessible in the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ed class must use the base class’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es can redefine the functions that they inher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4572000"/>
            <a:ext cx="51339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2300400"/>
            <a:ext cx="8229600" cy="3125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15080" y="1461960"/>
            <a:ext cx="465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ance hierarchy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p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9040" y="136692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36692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8952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1120" y="1461960"/>
            <a:ext cx="40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6120" y="3205080"/>
            <a:ext cx="6249960" cy="1314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9320" y="1447920"/>
            <a:ext cx="47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base-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504960" y="2362320"/>
            <a:ext cx="3581640" cy="1447560"/>
            <a:chOff x="3504960" y="2362320"/>
            <a:chExt cx="3581640" cy="1447560"/>
          </a:xfrm>
        </p:grpSpPr>
        <p:sp>
          <p:nvSpPr>
            <p:cNvPr id="94" name=""/>
            <p:cNvSpPr/>
            <p:nvPr/>
          </p:nvSpPr>
          <p:spPr>
            <a:xfrm>
              <a:off x="4495680" y="23623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504960" y="2971800"/>
              <a:ext cx="9903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9600" y="1752480"/>
            <a:ext cx="6183360" cy="3409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2200" y="1461960"/>
            <a:ext cx="49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181120" y="2567160"/>
            <a:ext cx="3657960" cy="732600"/>
            <a:chOff x="5181120" y="2567160"/>
            <a:chExt cx="3657960" cy="732600"/>
          </a:xfrm>
        </p:grpSpPr>
        <p:sp>
          <p:nvSpPr>
            <p:cNvPr id="100" name=""/>
            <p:cNvSpPr/>
            <p:nvPr/>
          </p:nvSpPr>
          <p:spPr>
            <a:xfrm>
              <a:off x="6019920" y="27190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181120" y="2567160"/>
              <a:ext cx="8384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038480" y="4471560"/>
            <a:ext cx="4038840" cy="809640"/>
            <a:chOff x="4038480" y="4471560"/>
            <a:chExt cx="4038840" cy="809640"/>
          </a:xfrm>
        </p:grpSpPr>
        <p:sp>
          <p:nvSpPr>
            <p:cNvPr id="103" name=""/>
            <p:cNvSpPr/>
            <p:nvPr/>
          </p:nvSpPr>
          <p:spPr>
            <a:xfrm>
              <a:off x="5867280" y="47005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 data member for the weekly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038480" y="4471560"/>
              <a:ext cx="182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85800" y="510552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fault value is assigned to the argument if the function call does not specify tha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inherit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 new classes quickly from existing classes using inherit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polymorphism to create an application that conveniently processes related objects as though they are the sam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9600" y="1828800"/>
            <a:ext cx="6183360" cy="242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14720" y="1461960"/>
            <a:ext cx="55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724280" y="2381400"/>
            <a:ext cx="4191120" cy="824040"/>
            <a:chOff x="4724280" y="2381400"/>
            <a:chExt cx="4191120" cy="824040"/>
          </a:xfrm>
        </p:grpSpPr>
        <p:sp>
          <p:nvSpPr>
            <p:cNvPr id="110" name=""/>
            <p:cNvSpPr/>
            <p:nvPr/>
          </p:nvSpPr>
          <p:spPr>
            <a:xfrm>
              <a:off x="6172200" y="23814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’s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724280" y="2381400"/>
              <a:ext cx="1447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85800" y="4191120"/>
            <a:ext cx="7769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-class initializer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base-class constructor with a member initi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nitializer list initializes a class’s data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-separated list, separated from parameter list by a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9600" y="1905120"/>
            <a:ext cx="6183360" cy="4219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9040" y="146196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s for the data memb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eklySal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190760" y="2895120"/>
            <a:ext cx="4572360" cy="2057760"/>
            <a:chOff x="4190760" y="2895120"/>
            <a:chExt cx="4572360" cy="2057760"/>
          </a:xfrm>
        </p:grpSpPr>
        <p:sp>
          <p:nvSpPr>
            <p:cNvPr id="117" name=""/>
            <p:cNvSpPr/>
            <p:nvPr/>
          </p:nvSpPr>
          <p:spPr>
            <a:xfrm>
              <a:off x="5638680" y="327672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eekly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876920" y="3581280"/>
              <a:ext cx="7617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190760" y="2895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9600" y="2286000"/>
            <a:ext cx="6183360" cy="2104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12560" y="1461960"/>
            <a:ext cx="44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9480" y="3591000"/>
            <a:ext cx="3124440" cy="1485720"/>
            <a:chOff x="609480" y="3591000"/>
            <a:chExt cx="3124440" cy="1485720"/>
          </a:xfrm>
        </p:grpSpPr>
        <p:sp>
          <p:nvSpPr>
            <p:cNvPr id="124" name=""/>
            <p:cNvSpPr/>
            <p:nvPr/>
          </p:nvSpPr>
          <p:spPr>
            <a:xfrm>
              <a:off x="609480" y="449604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09480" y="3591000"/>
              <a:ext cx="1676520" cy="9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85800" y="5029200"/>
            <a:ext cx="7769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ing a base-class function from a deriv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base class’s name and the binary scope resolution operator before the functio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94000" y="3214800"/>
            <a:ext cx="6154560" cy="129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12200" y="1461960"/>
            <a:ext cx="62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9480" y="4038120"/>
            <a:ext cx="2590920" cy="1343160"/>
            <a:chOff x="609480" y="4038120"/>
            <a:chExt cx="2590920" cy="1343160"/>
          </a:xfrm>
        </p:grpSpPr>
        <p:sp>
          <p:nvSpPr>
            <p:cNvPr id="131" name=""/>
            <p:cNvSpPr/>
            <p:nvPr/>
          </p:nvSpPr>
          <p:spPr>
            <a:xfrm>
              <a:off x="609480" y="48006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09480" y="403812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50800" y="3114720"/>
            <a:ext cx="6240600" cy="1495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7600" y="1461960"/>
            <a:ext cx="71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n array of pointers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66720" y="4114440"/>
            <a:ext cx="3657960" cy="1586520"/>
            <a:chOff x="4266720" y="4114440"/>
            <a:chExt cx="3657960" cy="1586520"/>
          </a:xfrm>
        </p:grpSpPr>
        <p:sp>
          <p:nvSpPr>
            <p:cNvPr id="137" name=""/>
            <p:cNvSpPr/>
            <p:nvPr/>
          </p:nvSpPr>
          <p:spPr>
            <a:xfrm>
              <a:off x="4800600" y="487692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store 10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266720" y="411444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9096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0760" y="1461960"/>
            <a:ext cx="60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roll application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2280" y="2362320"/>
            <a:ext cx="2286000" cy="580680"/>
            <a:chOff x="152280" y="2362320"/>
            <a:chExt cx="2286000" cy="580680"/>
          </a:xfrm>
        </p:grpSpPr>
        <p:sp>
          <p:nvSpPr>
            <p:cNvPr id="143" name=""/>
            <p:cNvSpPr/>
            <p:nvPr/>
          </p:nvSpPr>
          <p:spPr>
            <a:xfrm>
              <a:off x="152280" y="236232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variables to store user 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720" y="26668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419360" y="3962520"/>
            <a:ext cx="4496040" cy="1662120"/>
            <a:chOff x="4419360" y="3962520"/>
            <a:chExt cx="4496040" cy="1662120"/>
          </a:xfrm>
        </p:grpSpPr>
        <p:sp>
          <p:nvSpPr>
            <p:cNvPr id="146" name=""/>
            <p:cNvSpPr/>
            <p:nvPr/>
          </p:nvSpPr>
          <p:spPr>
            <a:xfrm>
              <a:off x="5943600" y="48006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an employee’s name, social security number and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95680" y="48006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952880" y="48006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419360" y="4419720"/>
              <a:ext cx="1523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4419360" y="3962520"/>
              <a:ext cx="15238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84280" y="3052800"/>
            <a:ext cx="6174000" cy="1619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5080" y="146196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00600" y="4038480"/>
            <a:ext cx="2743200" cy="1571400"/>
            <a:chOff x="4800600" y="4038480"/>
            <a:chExt cx="2743200" cy="1571400"/>
          </a:xfrm>
        </p:grpSpPr>
        <p:sp>
          <p:nvSpPr>
            <p:cNvPr id="155" name=""/>
            <p:cNvSpPr/>
            <p:nvPr/>
          </p:nvSpPr>
          <p:spPr>
            <a:xfrm>
              <a:off x="4800600" y="5029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952880" y="4038480"/>
              <a:ext cx="19051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94000" y="1828800"/>
            <a:ext cx="6154560" cy="4371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4000" y="1461960"/>
            <a:ext cx="75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information and wages for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724280" y="2057400"/>
            <a:ext cx="3886200" cy="1371600"/>
            <a:chOff x="4724280" y="2057400"/>
            <a:chExt cx="3886200" cy="1371600"/>
          </a:xfrm>
        </p:grpSpPr>
        <p:sp>
          <p:nvSpPr>
            <p:cNvPr id="161" name=""/>
            <p:cNvSpPr/>
            <p:nvPr/>
          </p:nvSpPr>
          <p:spPr>
            <a:xfrm>
              <a:off x="5791320" y="205740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ing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 in the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724280" y="28954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800240" y="3276720"/>
            <a:ext cx="3886560" cy="824040"/>
            <a:chOff x="4800240" y="3276720"/>
            <a:chExt cx="3886560" cy="824040"/>
          </a:xfrm>
        </p:grpSpPr>
        <p:sp>
          <p:nvSpPr>
            <p:cNvPr id="164" name=""/>
            <p:cNvSpPr/>
            <p:nvPr/>
          </p:nvSpPr>
          <p:spPr>
            <a:xfrm>
              <a:off x="5943600" y="327672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name, social security number and employee 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800240" y="38862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095880" y="4571640"/>
            <a:ext cx="2743200" cy="414000"/>
            <a:chOff x="6095880" y="4571640"/>
            <a:chExt cx="2743200" cy="414000"/>
          </a:xfrm>
        </p:grpSpPr>
        <p:sp>
          <p:nvSpPr>
            <p:cNvPr id="167" name=""/>
            <p:cNvSpPr/>
            <p:nvPr/>
          </p:nvSpPr>
          <p:spPr>
            <a:xfrm>
              <a:off x="6248520" y="464832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weekly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095880" y="45716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733920" y="5181120"/>
            <a:ext cx="5181480" cy="414000"/>
            <a:chOff x="3733920" y="5181120"/>
            <a:chExt cx="5181480" cy="414000"/>
          </a:xfrm>
        </p:grpSpPr>
        <p:sp>
          <p:nvSpPr>
            <p:cNvPr id="170" name=""/>
            <p:cNvSpPr/>
            <p:nvPr/>
          </p:nvSpPr>
          <p:spPr>
            <a:xfrm>
              <a:off x="6324480" y="525780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ing the salary to the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3733920" y="5181120"/>
              <a:ext cx="2590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733920" y="5638320"/>
            <a:ext cx="2438280" cy="566280"/>
            <a:chOff x="3733920" y="5638320"/>
            <a:chExt cx="2438280" cy="566280"/>
          </a:xfrm>
        </p:grpSpPr>
        <p:sp>
          <p:nvSpPr>
            <p:cNvPr id="173" name=""/>
            <p:cNvSpPr/>
            <p:nvPr/>
          </p:nvSpPr>
          <p:spPr>
            <a:xfrm>
              <a:off x="3733920" y="58672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total payro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733920" y="56383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0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55840" y="2886120"/>
            <a:ext cx="6230880" cy="1952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13280" y="1461960"/>
            <a:ext cx="55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ing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62120" y="4114800"/>
            <a:ext cx="2743200" cy="1571400"/>
            <a:chOff x="762120" y="4114800"/>
            <a:chExt cx="2743200" cy="1571400"/>
          </a:xfrm>
        </p:grpSpPr>
        <p:sp>
          <p:nvSpPr>
            <p:cNvPr id="179" name=""/>
            <p:cNvSpPr/>
            <p:nvPr/>
          </p:nvSpPr>
          <p:spPr>
            <a:xfrm>
              <a:off x="762120" y="51055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leting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62120" y="4114800"/>
              <a:ext cx="1752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9" dur="1" fill="hold"/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66880" y="299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6160" y="1461960"/>
            <a:ext cx="843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information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6880" y="2766960"/>
            <a:ext cx="5610240" cy="2190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11120" y="1461960"/>
            <a:ext cx="84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payroll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2741760"/>
            <a:ext cx="8229600" cy="2243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160" y="1461960"/>
            <a:ext cx="82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L class diagram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heritance hierarchy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94000" y="3367080"/>
            <a:ext cx="6154560" cy="990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360" y="1461960"/>
            <a:ext cx="677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809520" y="3962160"/>
            <a:ext cx="4953600" cy="947160"/>
            <a:chOff x="3809520" y="3962160"/>
            <a:chExt cx="4953600" cy="947160"/>
          </a:xfrm>
        </p:grpSpPr>
        <p:sp>
          <p:nvSpPr>
            <p:cNvPr id="194" name=""/>
            <p:cNvSpPr/>
            <p:nvPr/>
          </p:nvSpPr>
          <p:spPr>
            <a:xfrm>
              <a:off x="5638680" y="457200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3809520" y="3962160"/>
              <a:ext cx="2133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88960" y="2971800"/>
            <a:ext cx="6164280" cy="1781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5080" y="1461960"/>
            <a:ext cx="64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definition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33920" y="3885840"/>
            <a:ext cx="3962160" cy="1647720"/>
            <a:chOff x="3733920" y="3885840"/>
            <a:chExt cx="3962160" cy="1647720"/>
          </a:xfrm>
        </p:grpSpPr>
        <p:sp>
          <p:nvSpPr>
            <p:cNvPr id="200" name=""/>
            <p:cNvSpPr/>
            <p:nvPr/>
          </p:nvSpPr>
          <p:spPr>
            <a:xfrm>
              <a:off x="4952880" y="4952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733920" y="388584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7" dur="1" fill="hold"/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06400" y="1752480"/>
            <a:ext cx="5729400" cy="4525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12200" y="1461960"/>
            <a:ext cx="48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34120" y="2743200"/>
            <a:ext cx="3657600" cy="337320"/>
            <a:chOff x="5334120" y="2743200"/>
            <a:chExt cx="3657600" cy="337320"/>
          </a:xfrm>
        </p:grpSpPr>
        <p:sp>
          <p:nvSpPr>
            <p:cNvPr id="206" name=""/>
            <p:cNvSpPr/>
            <p:nvPr/>
          </p:nvSpPr>
          <p:spPr>
            <a:xfrm>
              <a:off x="5791320" y="274320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defin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334120" y="281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6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79600" y="1828800"/>
            <a:ext cx="6183360" cy="4371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4720" y="1461960"/>
            <a:ext cx="75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definitions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723920" y="2514600"/>
            <a:ext cx="4039200" cy="580680"/>
            <a:chOff x="4723920" y="2514600"/>
            <a:chExt cx="4039200" cy="580680"/>
          </a:xfrm>
        </p:grpSpPr>
        <p:sp>
          <p:nvSpPr>
            <p:cNvPr id="212" name=""/>
            <p:cNvSpPr/>
            <p:nvPr/>
          </p:nvSpPr>
          <p:spPr>
            <a:xfrm>
              <a:off x="5562720" y="25146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723920" y="26668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71640" y="4724280"/>
            <a:ext cx="4267440" cy="580680"/>
            <a:chOff x="4571640" y="4724280"/>
            <a:chExt cx="4267440" cy="580680"/>
          </a:xfrm>
        </p:grpSpPr>
        <p:sp>
          <p:nvSpPr>
            <p:cNvPr id="215" name=""/>
            <p:cNvSpPr/>
            <p:nvPr/>
          </p:nvSpPr>
          <p:spPr>
            <a:xfrm>
              <a:off x="5715000" y="47242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57164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derived classes can be stored as pointers to the bas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ointer to the derived class will be implicitly converted to a pointer to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98680" y="3124080"/>
            <a:ext cx="6145200" cy="1476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15800" y="1461960"/>
            <a:ext cx="770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ission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62120" y="3962160"/>
            <a:ext cx="2819160" cy="1724040"/>
            <a:chOff x="762120" y="3962160"/>
            <a:chExt cx="2819160" cy="1724040"/>
          </a:xfrm>
        </p:grpSpPr>
        <p:sp>
          <p:nvSpPr>
            <p:cNvPr id="223" name=""/>
            <p:cNvSpPr/>
            <p:nvPr/>
          </p:nvSpPr>
          <p:spPr>
            <a:xfrm>
              <a:off x="762120" y="510552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62120" y="396216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9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46120" y="3114720"/>
            <a:ext cx="6249960" cy="1495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16520" y="1461960"/>
            <a:ext cx="62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n array of pointers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038480"/>
            <a:ext cx="3886200" cy="1495080"/>
            <a:chOff x="3886200" y="4038480"/>
            <a:chExt cx="3886200" cy="1495080"/>
          </a:xfrm>
        </p:grpSpPr>
        <p:sp>
          <p:nvSpPr>
            <p:cNvPr id="229" name=""/>
            <p:cNvSpPr/>
            <p:nvPr/>
          </p:nvSpPr>
          <p:spPr>
            <a:xfrm>
              <a:off x="4648320" y="49528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o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_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10)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3886200" y="4038480"/>
              <a:ext cx="2362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8" dur="1" fill="hold"/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660760" y="1752480"/>
            <a:ext cx="3822480" cy="4525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3280" y="1461960"/>
            <a:ext cx="60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the 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920" y="3124080"/>
            <a:ext cx="2895480" cy="824040"/>
            <a:chOff x="304920" y="3124080"/>
            <a:chExt cx="2895480" cy="824040"/>
          </a:xfrm>
        </p:grpSpPr>
        <p:sp>
          <p:nvSpPr>
            <p:cNvPr id="235" name=""/>
            <p:cNvSpPr/>
            <p:nvPr/>
          </p:nvSpPr>
          <p:spPr>
            <a:xfrm>
              <a:off x="304920" y="3124080"/>
              <a:ext cx="2590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e employee name and social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89548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95480" y="33526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95480" y="33526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0080" y="4038480"/>
            <a:ext cx="3276720" cy="580680"/>
            <a:chOff x="5410080" y="4038480"/>
            <a:chExt cx="3276720" cy="580680"/>
          </a:xfrm>
        </p:grpSpPr>
        <p:sp>
          <p:nvSpPr>
            <p:cNvPr id="240" name=""/>
            <p:cNvSpPr/>
            <p:nvPr/>
          </p:nvSpPr>
          <p:spPr>
            <a:xfrm>
              <a:off x="5867280" y="40384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a menu that prompts the user for the employee 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410080" y="4267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04920" y="4952880"/>
            <a:ext cx="3200400" cy="1067400"/>
            <a:chOff x="304920" y="4952880"/>
            <a:chExt cx="3200400" cy="1067400"/>
          </a:xfrm>
        </p:grpSpPr>
        <p:sp>
          <p:nvSpPr>
            <p:cNvPr id="243" name=""/>
            <p:cNvSpPr/>
            <p:nvPr/>
          </p:nvSpPr>
          <p:spPr>
            <a:xfrm>
              <a:off x="304920" y="4952880"/>
              <a:ext cx="2819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e employee’s salary and creating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7" dur="1" fill="hold"/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120" y="1447920"/>
            <a:ext cx="54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494000" y="2324160"/>
            <a:ext cx="6154560" cy="3076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5440" y="1461960"/>
            <a:ext cx="58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ission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715000" y="4723920"/>
            <a:ext cx="2971800" cy="962280"/>
            <a:chOff x="5715000" y="4723920"/>
            <a:chExt cx="2971800" cy="962280"/>
          </a:xfrm>
        </p:grpSpPr>
        <p:sp>
          <p:nvSpPr>
            <p:cNvPr id="249" name=""/>
            <p:cNvSpPr/>
            <p:nvPr/>
          </p:nvSpPr>
          <p:spPr>
            <a:xfrm>
              <a:off x="5715000" y="51055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5943240" y="472392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6" dur="1" fill="hold"/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94000" y="3057480"/>
            <a:ext cx="6154560" cy="1609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5080" y="1461960"/>
            <a:ext cx="54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866920" y="3962160"/>
            <a:ext cx="2591280" cy="1571400"/>
            <a:chOff x="5866920" y="3962160"/>
            <a:chExt cx="2591280" cy="1571400"/>
          </a:xfrm>
        </p:grpSpPr>
        <p:sp>
          <p:nvSpPr>
            <p:cNvPr id="255" name=""/>
            <p:cNvSpPr/>
            <p:nvPr/>
          </p:nvSpPr>
          <p:spPr>
            <a:xfrm>
              <a:off x="5943600" y="49528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58669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5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94000" y="2895480"/>
            <a:ext cx="6154560" cy="1933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12920" y="1461960"/>
            <a:ext cx="65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information and wages for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3276720"/>
            <a:ext cx="2362680" cy="533160"/>
            <a:chOff x="5943240" y="3276720"/>
            <a:chExt cx="2362680" cy="533160"/>
          </a:xfrm>
        </p:grpSpPr>
        <p:sp>
          <p:nvSpPr>
            <p:cNvPr id="261" name=""/>
            <p:cNvSpPr/>
            <p:nvPr/>
          </p:nvSpPr>
          <p:spPr>
            <a:xfrm>
              <a:off x="6095880" y="327672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342900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648320" y="4495680"/>
            <a:ext cx="3124080" cy="794520"/>
            <a:chOff x="4648320" y="4495680"/>
            <a:chExt cx="3124080" cy="794520"/>
          </a:xfrm>
        </p:grpSpPr>
        <p:sp>
          <p:nvSpPr>
            <p:cNvPr id="264" name=""/>
            <p:cNvSpPr/>
            <p:nvPr/>
          </p:nvSpPr>
          <p:spPr>
            <a:xfrm>
              <a:off x="4648320" y="495288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he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4876920" y="44956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9" dur="1" fill="hold"/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67" name=""/>
          <p:cNvSpPr/>
          <p:nvPr/>
        </p:nvSpPr>
        <p:spPr>
          <a:xfrm>
            <a:off x="411840" y="1447920"/>
            <a:ext cx="735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hourly employee inform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766880" y="2538360"/>
            <a:ext cx="5610240" cy="264816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3809520" y="4800600"/>
            <a:ext cx="4115160" cy="1114200"/>
            <a:chOff x="3809520" y="4800600"/>
            <a:chExt cx="4115160" cy="1114200"/>
          </a:xfrm>
        </p:grpSpPr>
        <p:sp>
          <p:nvSpPr>
            <p:cNvPr id="270" name=""/>
            <p:cNvSpPr/>
            <p:nvPr/>
          </p:nvSpPr>
          <p:spPr>
            <a:xfrm>
              <a:off x="4952880" y="53341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ering earnings information for an hourly 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809520" y="4800600"/>
              <a:ext cx="1676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66880" y="2881440"/>
            <a:ext cx="5610240" cy="1962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11120" y="1447920"/>
            <a:ext cx="75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salaried employee inform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428640" y="4572000"/>
            <a:ext cx="3505680" cy="1037880"/>
            <a:chOff x="3428640" y="4572000"/>
            <a:chExt cx="3505680" cy="1037880"/>
          </a:xfrm>
        </p:grpSpPr>
        <p:sp>
          <p:nvSpPr>
            <p:cNvPr id="276" name=""/>
            <p:cNvSpPr/>
            <p:nvPr/>
          </p:nvSpPr>
          <p:spPr>
            <a:xfrm>
              <a:off x="3809880" y="502920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ering earnings information for a salaried 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3428640" y="4572000"/>
              <a:ext cx="1600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7" dur="1" fill="hold"/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10400" y="1447920"/>
            <a:ext cx="57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displaying incorrect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971800" y="3809880"/>
            <a:ext cx="4419720" cy="1738440"/>
            <a:chOff x="2971800" y="3809880"/>
            <a:chExt cx="4419720" cy="1738440"/>
          </a:xfrm>
        </p:grpSpPr>
        <p:sp>
          <p:nvSpPr>
            <p:cNvPr id="282" name=""/>
            <p:cNvSpPr/>
            <p:nvPr/>
          </p:nvSpPr>
          <p:spPr>
            <a:xfrm>
              <a:off x="4648320" y="47242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 does not display employee type and displays incorrect earnings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2971800" y="4114440"/>
              <a:ext cx="2286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971800" y="380988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6" dur="1" fill="hold"/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uses the type of the pointer to an object, not the type of the object, to determine which function to call when a derived class redefines a base clas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olymorphism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allows a function call to act differently depending on the type of the object invok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 means “many form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type of the object being pointed to determine which version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re overridden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a function virtual precede its declaration wit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olymorphism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are too general to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a class abstract by declaring a p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u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h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fter its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u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cannot be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es can be used  to define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inters can then be pointed to objects of any concrete class derived from the abstrac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 are classes that can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crete class must override all pure virtual functions it inherits from its base class (if that base class is abstra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488960" y="3052800"/>
            <a:ext cx="6164280" cy="1619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15800" y="1461960"/>
            <a:ext cx="758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4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and a pu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i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33520" y="4038120"/>
            <a:ext cx="3200400" cy="1419480"/>
            <a:chOff x="533520" y="4038120"/>
            <a:chExt cx="3200400" cy="1419480"/>
          </a:xfrm>
        </p:grpSpPr>
        <p:sp>
          <p:nvSpPr>
            <p:cNvPr id="295" name=""/>
            <p:cNvSpPr/>
            <p:nvPr/>
          </p:nvSpPr>
          <p:spPr>
            <a:xfrm>
              <a:off x="533520" y="48769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function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o that they can be overridd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33520" y="4038120"/>
              <a:ext cx="17524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5" dur="1" fill="hold"/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299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840" y="1447920"/>
            <a:ext cx="66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employee inform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498680" y="2971800"/>
            <a:ext cx="6145200" cy="1781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15440" y="1461960"/>
            <a:ext cx="68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4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comments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Employe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766880" y="2595600"/>
            <a:ext cx="5610240" cy="25336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11840" y="1447920"/>
            <a:ext cx="77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4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employee information in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766880" y="2766960"/>
            <a:ext cx="5610240" cy="2190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07160" y="1447920"/>
            <a:ext cx="846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4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sing virtual functions to access objects polymorphic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3520" y="3428640"/>
            <a:ext cx="2743200" cy="2181240"/>
            <a:chOff x="533520" y="3428640"/>
            <a:chExt cx="2743200" cy="2181240"/>
          </a:xfrm>
        </p:grpSpPr>
        <p:sp>
          <p:nvSpPr>
            <p:cNvPr id="307" name=""/>
            <p:cNvSpPr/>
            <p:nvPr/>
          </p:nvSpPr>
          <p:spPr>
            <a:xfrm>
              <a:off x="533520" y="5029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employee type and correct earn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33520" y="3428640"/>
              <a:ext cx="1218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33520" y="3885840"/>
              <a:ext cx="1218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33520" y="4343040"/>
              <a:ext cx="1218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33520" y="472392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4" dur="1" fill="hold"/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1219320" y="2057040"/>
            <a:ext cx="6553080" cy="1967400"/>
            <a:chOff x="1219320" y="2057040"/>
            <a:chExt cx="6553080" cy="1967400"/>
          </a:xfrm>
        </p:grpSpPr>
        <p:sp>
          <p:nvSpPr>
            <p:cNvPr id="319" name=""/>
            <p:cNvSpPr/>
            <p:nvPr/>
          </p:nvSpPr>
          <p:spPr>
            <a:xfrm>
              <a:off x="4724280" y="320040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function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o that they can be processed polymorphical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1219320" y="2057040"/>
              <a:ext cx="4114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3" dur="1" fill="hold"/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7086600" y="838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086600" y="838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086600" y="838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0" y="0"/>
          <a:ext cx="6856560" cy="20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7086600" y="838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0"/>
          <a:ext cx="6856560" cy="65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5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086600" y="8380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742840" y="4191120"/>
            <a:ext cx="5029560" cy="337320"/>
            <a:chOff x="2742840" y="4191120"/>
            <a:chExt cx="5029560" cy="337320"/>
          </a:xfrm>
        </p:grpSpPr>
        <p:sp>
          <p:nvSpPr>
            <p:cNvPr id="337" name=""/>
            <p:cNvSpPr/>
            <p:nvPr/>
          </p:nvSpPr>
          <p:spPr>
            <a:xfrm>
              <a:off x="4876920" y="41911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d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742840" y="4343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2" dur="1" fill="hold"/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840" y="144792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salary inform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 (1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 (2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 (3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047760" y="380520"/>
            <a:ext cx="4038840" cy="581040"/>
            <a:chOff x="3047760" y="380520"/>
            <a:chExt cx="4038840" cy="581040"/>
          </a:xfrm>
        </p:grpSpPr>
        <p:sp>
          <p:nvSpPr>
            <p:cNvPr id="349" name=""/>
            <p:cNvSpPr/>
            <p:nvPr/>
          </p:nvSpPr>
          <p:spPr>
            <a:xfrm>
              <a:off x="4114800" y="3808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3047760" y="38052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743200" y="1523880"/>
            <a:ext cx="4343400" cy="580680"/>
            <a:chOff x="2743200" y="1523880"/>
            <a:chExt cx="4343400" cy="580680"/>
          </a:xfrm>
        </p:grpSpPr>
        <p:sp>
          <p:nvSpPr>
            <p:cNvPr id="352" name=""/>
            <p:cNvSpPr/>
            <p:nvPr/>
          </p:nvSpPr>
          <p:spPr>
            <a:xfrm>
              <a:off x="4191120" y="15238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743200" y="160020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6" dur="1" fill="hold"/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7086600" y="838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086600" y="838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514600" y="1447560"/>
            <a:ext cx="5181480" cy="718560"/>
            <a:chOff x="2514600" y="1447560"/>
            <a:chExt cx="5181480" cy="718560"/>
          </a:xfrm>
        </p:grpSpPr>
        <p:sp>
          <p:nvSpPr>
            <p:cNvPr id="361" name=""/>
            <p:cNvSpPr/>
            <p:nvPr/>
          </p:nvSpPr>
          <p:spPr>
            <a:xfrm>
              <a:off x="4800600" y="18288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d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2514600" y="1447560"/>
              <a:ext cx="2286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5" dur="1" fill="hold"/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1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2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3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4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971440" y="2133360"/>
            <a:ext cx="4953240" cy="961920"/>
            <a:chOff x="2971440" y="2133360"/>
            <a:chExt cx="4953240" cy="961920"/>
          </a:xfrm>
        </p:grpSpPr>
        <p:sp>
          <p:nvSpPr>
            <p:cNvPr id="376" name=""/>
            <p:cNvSpPr/>
            <p:nvPr/>
          </p:nvSpPr>
          <p:spPr>
            <a:xfrm>
              <a:off x="4952880" y="25146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2971440" y="2133360"/>
              <a:ext cx="19810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4" dur="1" fill="hold"/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0" y="0"/>
          <a:ext cx="6856560" cy="20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5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742840" y="304920"/>
            <a:ext cx="4038840" cy="580680"/>
            <a:chOff x="2742840" y="304920"/>
            <a:chExt cx="4038840" cy="580680"/>
          </a:xfrm>
        </p:grpSpPr>
        <p:sp>
          <p:nvSpPr>
            <p:cNvPr id="382" name=""/>
            <p:cNvSpPr/>
            <p:nvPr/>
          </p:nvSpPr>
          <p:spPr>
            <a:xfrm>
              <a:off x="3886200" y="3049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742840" y="533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3" dur="1" fill="hold"/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" y="1447920"/>
            <a:ext cx="78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second employee’s information in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7086600" y="8380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7086600" y="8380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666880" y="1447560"/>
            <a:ext cx="4800600" cy="489960"/>
            <a:chOff x="2666880" y="1447560"/>
            <a:chExt cx="4800600" cy="489960"/>
          </a:xfrm>
        </p:grpSpPr>
        <p:sp>
          <p:nvSpPr>
            <p:cNvPr id="391" name=""/>
            <p:cNvSpPr/>
            <p:nvPr/>
          </p:nvSpPr>
          <p:spPr>
            <a:xfrm>
              <a:off x="4572000" y="16002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d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2666880" y="1447560"/>
              <a:ext cx="1905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2" dur="1" fill="hold"/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7086600" y="838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7086600" y="838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7086600" y="838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7086600" y="838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352320" y="304920"/>
            <a:ext cx="4343760" cy="580680"/>
            <a:chOff x="3352320" y="304920"/>
            <a:chExt cx="4343760" cy="580680"/>
          </a:xfrm>
        </p:grpSpPr>
        <p:sp>
          <p:nvSpPr>
            <p:cNvPr id="406" name=""/>
            <p:cNvSpPr/>
            <p:nvPr/>
          </p:nvSpPr>
          <p:spPr>
            <a:xfrm>
              <a:off x="4495680" y="3049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3352320" y="38052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048120" y="1752480"/>
            <a:ext cx="4114800" cy="580680"/>
            <a:chOff x="3048120" y="1752480"/>
            <a:chExt cx="4114800" cy="580680"/>
          </a:xfrm>
        </p:grpSpPr>
        <p:sp>
          <p:nvSpPr>
            <p:cNvPr id="409" name=""/>
            <p:cNvSpPr/>
            <p:nvPr/>
          </p:nvSpPr>
          <p:spPr>
            <a:xfrm>
              <a:off x="4267080" y="175248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048120" y="19810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6" dur="1" fill="hold"/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1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09680" y="2743200"/>
            <a:ext cx="6248520" cy="1190160"/>
            <a:chOff x="2209680" y="2743200"/>
            <a:chExt cx="6248520" cy="1190160"/>
          </a:xfrm>
        </p:grpSpPr>
        <p:sp>
          <p:nvSpPr>
            <p:cNvPr id="415" name=""/>
            <p:cNvSpPr/>
            <p:nvPr/>
          </p:nvSpPr>
          <p:spPr>
            <a:xfrm>
              <a:off x="5562720" y="33526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header files for classes derived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09680" y="2743200"/>
              <a:ext cx="3353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124080" y="4266720"/>
            <a:ext cx="5029200" cy="977040"/>
            <a:chOff x="3124080" y="4266720"/>
            <a:chExt cx="5029200" cy="977040"/>
          </a:xfrm>
        </p:grpSpPr>
        <p:sp>
          <p:nvSpPr>
            <p:cNvPr id="418" name=""/>
            <p:cNvSpPr/>
            <p:nvPr/>
          </p:nvSpPr>
          <p:spPr>
            <a:xfrm>
              <a:off x="5486400" y="4419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rototypes declaring parameters using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3124080" y="4266720"/>
              <a:ext cx="2362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0" dur="1" fill="hold"/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2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352680" y="1143000"/>
            <a:ext cx="5410440" cy="1448280"/>
            <a:chOff x="3352680" y="1143000"/>
            <a:chExt cx="5410440" cy="1448280"/>
          </a:xfrm>
        </p:grpSpPr>
        <p:sp>
          <p:nvSpPr>
            <p:cNvPr id="424" name=""/>
            <p:cNvSpPr/>
            <p:nvPr/>
          </p:nvSpPr>
          <p:spPr>
            <a:xfrm>
              <a:off x="5791320" y="152388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of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that enables the application to process employees polymorphical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3352680" y="1143000"/>
              <a:ext cx="2438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9" dur="1" fill="hold"/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3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4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2" name=""/>
          <p:cNvGrpSpPr/>
          <p:nvPr/>
        </p:nvGrpSpPr>
        <p:grpSpPr>
          <a:xfrm>
            <a:off x="2743200" y="1143000"/>
            <a:ext cx="5943600" cy="1281240"/>
            <a:chOff x="2743200" y="1143000"/>
            <a:chExt cx="5943600" cy="1281240"/>
          </a:xfrm>
        </p:grpSpPr>
        <p:sp>
          <p:nvSpPr>
            <p:cNvPr id="433" name=""/>
            <p:cNvSpPr/>
            <p:nvPr/>
          </p:nvSpPr>
          <p:spPr>
            <a:xfrm>
              <a:off x="5791320" y="16002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estroy each object referenced by a pointer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2743200" y="1143000"/>
              <a:ext cx="3200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8" dur="1" fill="hold"/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2824200"/>
            <a:ext cx="5610240" cy="207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2200" y="1447920"/>
            <a:ext cx="75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third employee’s information in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5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362320" y="2971800"/>
            <a:ext cx="5257800" cy="580680"/>
            <a:chOff x="2362320" y="2971800"/>
            <a:chExt cx="5257800" cy="580680"/>
          </a:xfrm>
        </p:grpSpPr>
        <p:sp>
          <p:nvSpPr>
            <p:cNvPr id="439" name=""/>
            <p:cNvSpPr/>
            <p:nvPr/>
          </p:nvSpPr>
          <p:spPr>
            <a:xfrm>
              <a:off x="5029200" y="2971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witch based on the selected employee 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362320" y="35053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523520" y="3886200"/>
            <a:ext cx="6096600" cy="580680"/>
            <a:chOff x="1523520" y="3886200"/>
            <a:chExt cx="6096600" cy="580680"/>
          </a:xfrm>
        </p:grpSpPr>
        <p:sp>
          <p:nvSpPr>
            <p:cNvPr id="442" name=""/>
            <p:cNvSpPr/>
            <p:nvPr/>
          </p:nvSpPr>
          <p:spPr>
            <a:xfrm>
              <a:off x="5105520" y="38862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 the case for a salaried 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523520" y="396252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191120" y="1904760"/>
            <a:ext cx="4114800" cy="733320"/>
            <a:chOff x="4191120" y="1904760"/>
            <a:chExt cx="4114800" cy="733320"/>
          </a:xfrm>
        </p:grpSpPr>
        <p:sp>
          <p:nvSpPr>
            <p:cNvPr id="445" name=""/>
            <p:cNvSpPr/>
            <p:nvPr/>
          </p:nvSpPr>
          <p:spPr>
            <a:xfrm>
              <a:off x="5410080" y="205740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and input the employee 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4191120" y="1904760"/>
              <a:ext cx="1218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7" dur="1" fill="hold"/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6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200040" y="380520"/>
            <a:ext cx="3810240" cy="1220400"/>
            <a:chOff x="3200040" y="380520"/>
            <a:chExt cx="3810240" cy="1220400"/>
          </a:xfrm>
        </p:grpSpPr>
        <p:sp>
          <p:nvSpPr>
            <p:cNvPr id="451" name=""/>
            <p:cNvSpPr/>
            <p:nvPr/>
          </p:nvSpPr>
          <p:spPr>
            <a:xfrm>
              <a:off x="3962520" y="533520"/>
              <a:ext cx="3047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store a pointer to it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200040" y="3805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599840" y="1523520"/>
            <a:ext cx="7010640" cy="885960"/>
            <a:chOff x="1599840" y="1523520"/>
            <a:chExt cx="7010640" cy="885960"/>
          </a:xfrm>
        </p:grpSpPr>
        <p:sp>
          <p:nvSpPr>
            <p:cNvPr id="454" name=""/>
            <p:cNvSpPr/>
            <p:nvPr/>
          </p:nvSpPr>
          <p:spPr>
            <a:xfrm>
              <a:off x="6324480" y="18288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 the case for a commissioned 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1599840" y="1523520"/>
              <a:ext cx="4724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343400" y="4572000"/>
            <a:ext cx="3505320" cy="1524600"/>
            <a:chOff x="4343400" y="4572000"/>
            <a:chExt cx="3505320" cy="1524600"/>
          </a:xfrm>
        </p:grpSpPr>
        <p:sp>
          <p:nvSpPr>
            <p:cNvPr id="457" name=""/>
            <p:cNvSpPr/>
            <p:nvPr/>
          </p:nvSpPr>
          <p:spPr>
            <a:xfrm>
              <a:off x="4876920" y="502920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store a pointer to it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4343400" y="457200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6" dur="1" fill="hold"/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7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599840" y="228600"/>
            <a:ext cx="6401160" cy="1875960"/>
            <a:chOff x="1599840" y="228600"/>
            <a:chExt cx="6401160" cy="1875960"/>
          </a:xfrm>
        </p:grpSpPr>
        <p:sp>
          <p:nvSpPr>
            <p:cNvPr id="463" name=""/>
            <p:cNvSpPr/>
            <p:nvPr/>
          </p:nvSpPr>
          <p:spPr>
            <a:xfrm>
              <a:off x="5486400" y="15238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 the case for an hourly 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1599840" y="228600"/>
              <a:ext cx="3886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343040" y="2971800"/>
            <a:ext cx="4038840" cy="1067400"/>
            <a:chOff x="4343040" y="2971800"/>
            <a:chExt cx="4038840" cy="1067400"/>
          </a:xfrm>
        </p:grpSpPr>
        <p:sp>
          <p:nvSpPr>
            <p:cNvPr id="466" name=""/>
            <p:cNvSpPr/>
            <p:nvPr/>
          </p:nvSpPr>
          <p:spPr>
            <a:xfrm>
              <a:off x="5562720" y="2971800"/>
              <a:ext cx="2819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store a pointer to it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4343040" y="312408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0" dur="1" fill="hold"/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8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800240" y="4572000"/>
            <a:ext cx="4038840" cy="1219680"/>
            <a:chOff x="4800240" y="4572000"/>
            <a:chExt cx="4038840" cy="1219680"/>
          </a:xfrm>
        </p:grpSpPr>
        <p:sp>
          <p:nvSpPr>
            <p:cNvPr id="472" name=""/>
            <p:cNvSpPr/>
            <p:nvPr/>
          </p:nvSpPr>
          <p:spPr>
            <a:xfrm>
              <a:off x="5867280" y="472428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cess each object derived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lymorphically; the overridd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ed by each subclass is ca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4800240" y="4572000"/>
              <a:ext cx="10666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276360" y="5334120"/>
            <a:ext cx="1981440" cy="718200"/>
            <a:chOff x="3276360" y="5334120"/>
            <a:chExt cx="1981440" cy="718200"/>
          </a:xfrm>
        </p:grpSpPr>
        <p:sp>
          <p:nvSpPr>
            <p:cNvPr id="475" name=""/>
            <p:cNvSpPr/>
            <p:nvPr/>
          </p:nvSpPr>
          <p:spPr>
            <a:xfrm>
              <a:off x="3276720" y="5715000"/>
              <a:ext cx="1981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earnings to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3276360" y="53341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200400" y="3505320"/>
            <a:ext cx="5486400" cy="580680"/>
            <a:chOff x="3200400" y="3505320"/>
            <a:chExt cx="5486400" cy="580680"/>
          </a:xfrm>
        </p:grpSpPr>
        <p:sp>
          <p:nvSpPr>
            <p:cNvPr id="478" name=""/>
            <p:cNvSpPr/>
            <p:nvPr/>
          </p:nvSpPr>
          <p:spPr>
            <a:xfrm>
              <a:off x="5943600" y="35053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each employee’s name and type using polymorphi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3200400" y="3733560"/>
              <a:ext cx="2743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9" dur="1" fill="hold"/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0" y="0"/>
          <a:ext cx="6856560" cy="275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9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962520" y="456840"/>
            <a:ext cx="2361960" cy="566280"/>
            <a:chOff x="3962520" y="456840"/>
            <a:chExt cx="2361960" cy="566280"/>
          </a:xfrm>
        </p:grpSpPr>
        <p:sp>
          <p:nvSpPr>
            <p:cNvPr id="484" name=""/>
            <p:cNvSpPr/>
            <p:nvPr/>
          </p:nvSpPr>
          <p:spPr>
            <a:xfrm>
              <a:off x="4267080" y="6858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otal earn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3962520" y="4568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8" dur="1" fill="hold"/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6880" y="2766960"/>
            <a:ext cx="5610240" cy="219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8960" y="1447920"/>
            <a:ext cx="34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payr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10:13Z</dcterms:created>
  <dc:creator>Jeffrey Peng</dc:creator>
  <dc:description/>
  <dc:language>en-US</dc:language>
  <cp:lastModifiedBy>Pearson Education</cp:lastModifiedBy>
  <dcterms:modified xsi:type="dcterms:W3CDTF">2004-10-11T14:12:48Z</dcterms:modified>
  <cp:revision>129</cp:revision>
  <dc:subject/>
  <dc:title>Tutorial 17 – Payroll Application: Introducing Inheritance and Polymorphism</dc:title>
</cp:coreProperties>
</file>